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8D12-D932-4F19-B04A-121A18732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75A3-D988-4B38-8CF8-7E5DD43F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18C5-7FBD-433E-8B67-342A75A5B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74CE-830C-4BA4-AC1E-C1997E65E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A966-DF74-418E-91FE-2F81D00E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0777-3115-4D6E-BBF2-A937A79E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9EC5-8A5E-4D60-ADB9-01156CB7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B9E9-2CE4-4DCD-8A6E-5EE6FA8B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1F45-40C5-44EB-A087-99782AE8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5AAC-889D-4416-86E2-24572F62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A5E0-AE26-4510-9856-7E79CD72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298D-D595-48E0-B017-D971861F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0731-D2A9-46DA-9A85-DCF89155F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47920" y="4723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yle Lau, Jacob Chism, Adrian Grijalva, Brandon Bl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19320" y="457200"/>
            <a:ext cx="647676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hat Are Planets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Arial"/>
              </a:rPr>
              <a:t>Must Orbit around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Arial"/>
              </a:rPr>
              <a:t>Must have a mass of 0.055 or more (Earths Mas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Arial"/>
              </a:rPr>
              <a:t>Must have a diameter of 49528 (km) or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Arial"/>
              </a:rPr>
              <a:t>The average planet must have a gravity of 0.38 or more to surv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676520" y="228600"/>
            <a:ext cx="5410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lanet Definitions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0"/>
          <a:ext cx="89917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917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152280"/>
          <a:ext cx="8794800" cy="6319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280"/>
                    <a:ext cx="8794800" cy="63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0"/>
          <a:ext cx="9144000" cy="689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0"/>
          <a:ext cx="8763120" cy="705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763120" cy="705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0"/>
          <a:ext cx="8839080" cy="666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39080" cy="66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189000"/>
          <a:ext cx="9144000" cy="666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9000"/>
                    <a:ext cx="9144000" cy="66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22:03:01Z</dcterms:created>
  <dc:creator>mchamorro</dc:creator>
  <dc:description/>
  <dc:language>en-US</dc:language>
  <cp:lastModifiedBy>Lil lau</cp:lastModifiedBy>
  <dcterms:modified xsi:type="dcterms:W3CDTF">2011-02-14T19:00:27Z</dcterms:modified>
  <cp:revision>6</cp:revision>
  <dc:subject/>
  <dc:title>Slide 1</dc:title>
</cp:coreProperties>
</file>